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62850" cy="1068863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E81A-1D84-4522-BB49-9E5899A88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E7A1-E56A-460A-A7AE-793E2D8F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406D-ACE4-46D5-ADFF-C1502FA7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948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8132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948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8132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A349-E830-430C-AAAA-912D37E5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5638-BB89-4F9C-B5AB-0D3B6076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7305-718F-4BED-BF52-0F707E6E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300B-A9D2-493F-A01D-C9B3155B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C0A5-FD09-4E7C-A484-82A4BA1A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688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4EE8-60A3-4A83-9FD4-118BB874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B75F-A10A-451E-8128-851AA1EF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3B1A-E713-41A8-A86C-F6E829FC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C214-A87B-495A-B316-3F8E1316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4440" y="9905760"/>
            <a:ext cx="23940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94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fld id="{6D69ED72-AC1E-4F54-99BF-ED5D60549CBB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900000" y="900000"/>
            <a:ext cx="5761080" cy="8888400"/>
          </a:xfrm>
          <a:prstGeom prst="rect">
            <a:avLst/>
          </a:prstGeom>
          <a:noFill/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no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pmo_poster_ppt_branding_color.png"/>
          <p:cNvPicPr/>
          <p:nvPr/>
        </p:nvPicPr>
        <p:blipFill>
          <a:blip r:embed="rId1"/>
          <a:stretch/>
        </p:blipFill>
        <p:spPr>
          <a:xfrm>
            <a:off x="900000" y="7907400"/>
            <a:ext cx="5759640" cy="1865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900000" y="1476360"/>
            <a:ext cx="580860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O.R. MORAVY, UH. OSTROH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Ř.KM 7,434 – 8,374, OPRAVA PB HRÁ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cs-CZ" sz="1400" spc="-1" strike="noStrike">
                <a:solidFill>
                  <a:srgbClr val="002243"/>
                </a:solidFill>
                <a:latin typeface="Arial"/>
                <a:ea typeface="Arial"/>
              </a:rPr>
              <a:t>k.ú. Uherský Ostro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900000" y="6248520"/>
            <a:ext cx="58086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Vypracoval: 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Ing.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Ondřej Polá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Datum: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3/20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4:50:46Z</dcterms:created>
  <dc:creator>J R</dc:creator>
  <dc:description/>
  <dc:language>en-US</dc:language>
  <cp:lastModifiedBy>Polách Ondřej</cp:lastModifiedBy>
  <cp:lastPrinted>2024-04-05T06:25:45Z</cp:lastPrinted>
  <dcterms:modified xsi:type="dcterms:W3CDTF">2024-04-05T06:31:15Z</dcterms:modified>
  <cp:revision>18</cp:revision>
  <dc:subject/>
  <dc:title>PowerPoint Presentation</dc:title>
</cp:coreProperties>
</file>