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62850" cy="106886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182F-CF2C-457A-B095-00BF0061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E6C3-9112-48D0-BDE2-3E2302AD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6A3-E991-4AC1-99A2-9A80F8EF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4A6B-F36F-4E48-B004-26B2B8ED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9E02-C189-4F08-B1D6-65659FD8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1D4E-B61C-4B0E-927D-2210675C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4A9F-C038-4CEC-ABF4-A3A0DB0E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C85E-5F93-4CF8-813B-498FD4CE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0E52-4A0D-49F6-B431-9CECB58F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71B3-7778-4291-A378-B0F3A752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436C-CB4E-4C78-8DE2-AF20F711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2E2C-BE76-45B8-B0DC-AF5D27C9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9905760"/>
            <a:ext cx="23940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94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B7191330-314C-42CE-975B-BE60B4B5A745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900000" y="900000"/>
            <a:ext cx="5761080" cy="8888400"/>
          </a:xfrm>
          <a:prstGeom prst="rect">
            <a:avLst/>
          </a:prstGeom>
          <a:noFill/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no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pmo_poster_ppt_branding_color.png"/>
          <p:cNvPicPr/>
          <p:nvPr/>
        </p:nvPicPr>
        <p:blipFill>
          <a:blip r:embed="rId1"/>
          <a:stretch/>
        </p:blipFill>
        <p:spPr>
          <a:xfrm>
            <a:off x="900000" y="7907400"/>
            <a:ext cx="5759640" cy="1865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900000" y="1476360"/>
            <a:ext cx="58086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O.R. MORAVY, UH. OSTROH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Ř.KM 7,434 – 8,374, OPRAVA PB HRÁ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cs-CZ" sz="1400" spc="-1" strike="noStrike">
                <a:solidFill>
                  <a:srgbClr val="002243"/>
                </a:solidFill>
                <a:latin typeface="Arial"/>
                <a:ea typeface="Arial"/>
              </a:rPr>
              <a:t>k.ú. Uherský Ostro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900000" y="6248520"/>
            <a:ext cx="58086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Vypracoval: 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Ing.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Ondřej Pol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Datum: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3/2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4:50:46Z</dcterms:created>
  <dc:creator>J R</dc:creator>
  <dc:description/>
  <dc:language>en-US</dc:language>
  <cp:lastModifiedBy>Polách Ondřej</cp:lastModifiedBy>
  <cp:lastPrinted>2024-04-05T06:25:45Z</cp:lastPrinted>
  <dcterms:modified xsi:type="dcterms:W3CDTF">2024-04-05T06:31:15Z</dcterms:modified>
  <cp:revision>18</cp:revision>
  <dc:subject/>
  <dc:title>PowerPoint Presentation</dc:title>
</cp:coreProperties>
</file>