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62850" cy="1068863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3D37-BC27-43DF-8396-2B6D71695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7904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79FA-8795-44EE-9F33-3F793A19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604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450C-EBDE-4A49-BD48-84266B098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948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8132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948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8132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28A3-1E52-4F4B-A11D-1DF0000C4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1D1A-ABC4-44AF-86B3-986C87A8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EA86-1F71-4E3C-8B99-A565D67A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E5EA-BF51-4C3D-A2DB-AB217F31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E82A-6C78-450C-9086-22152BB8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400"/>
            <a:ext cx="680688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6E27-B014-4670-9CEC-DEDBEB55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C2FA-2B55-4D98-A4A2-AE067609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604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D6BB-B30C-471F-A359-079E8B93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A167-5122-400B-B07C-9171CC88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46000" indent="-3254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303200" indent="-260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824120" indent="-2602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905760"/>
            <a:ext cx="176508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4440" y="9905760"/>
            <a:ext cx="239400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9440" y="9905760"/>
            <a:ext cx="176508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fld id="{98000309-8BC8-4DC3-88AE-A0376B954588}" type="slidenum">
              <a:rPr b="0" lang="en-US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6"/>
          <p:cNvSpPr/>
          <p:nvPr/>
        </p:nvSpPr>
        <p:spPr>
          <a:xfrm>
            <a:off x="900000" y="900000"/>
            <a:ext cx="5761080" cy="8888400"/>
          </a:xfrm>
          <a:prstGeom prst="rect">
            <a:avLst/>
          </a:prstGeom>
          <a:noFill/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no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pmo_poster_ppt_branding_color.png"/>
          <p:cNvPicPr/>
          <p:nvPr/>
        </p:nvPicPr>
        <p:blipFill>
          <a:blip r:embed="rId1"/>
          <a:stretch/>
        </p:blipFill>
        <p:spPr>
          <a:xfrm>
            <a:off x="900000" y="7907400"/>
            <a:ext cx="5759640" cy="18651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900000" y="1476360"/>
            <a:ext cx="580860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cs-CZ" sz="2200" spc="-1" strike="noStrike">
                <a:solidFill>
                  <a:srgbClr val="002243"/>
                </a:solidFill>
                <a:latin typeface="Arial"/>
                <a:ea typeface="Arial"/>
              </a:rPr>
              <a:t>O.R. MORAVY, UH. OSTROH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cs-CZ" sz="2200" spc="-1" strike="noStrike">
                <a:solidFill>
                  <a:srgbClr val="002243"/>
                </a:solidFill>
                <a:latin typeface="Arial"/>
                <a:ea typeface="Arial"/>
              </a:rPr>
              <a:t>Ř.KM 7,434 – 8,374, OPRAVA PB HRÁ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cs-CZ" sz="1400" spc="-1" strike="noStrike">
                <a:solidFill>
                  <a:srgbClr val="002243"/>
                </a:solidFill>
                <a:latin typeface="Arial"/>
                <a:ea typeface="Arial"/>
              </a:rPr>
              <a:t>k.ú. Uherský Ostro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19"/>
          <p:cNvSpPr/>
          <p:nvPr/>
        </p:nvSpPr>
        <p:spPr>
          <a:xfrm>
            <a:off x="900000" y="6248520"/>
            <a:ext cx="58086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Vypracoval: </a:t>
            </a:r>
            <a:r>
              <a:rPr b="0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Ing. </a:t>
            </a:r>
            <a:r>
              <a:rPr b="0" lang="cs-CZ" sz="1200" spc="-1" strike="noStrike">
                <a:solidFill>
                  <a:srgbClr val="002243"/>
                </a:solidFill>
                <a:latin typeface="Arial"/>
                <a:ea typeface="Arial"/>
              </a:rPr>
              <a:t>Ondřej Polá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Datum:</a:t>
            </a:r>
            <a:r>
              <a:rPr b="0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2243"/>
                </a:solidFill>
                <a:latin typeface="Arial"/>
                <a:ea typeface="Arial"/>
              </a:rPr>
              <a:t>3/20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14:50:46Z</dcterms:created>
  <dc:creator>J R</dc:creator>
  <dc:description/>
  <dc:language>en-US</dc:language>
  <cp:lastModifiedBy>Polách Ondřej</cp:lastModifiedBy>
  <cp:lastPrinted>2024-04-05T06:25:45Z</cp:lastPrinted>
  <dcterms:modified xsi:type="dcterms:W3CDTF">2024-04-05T06:31:15Z</dcterms:modified>
  <cp:revision>18</cp:revision>
  <dc:subject/>
  <dc:title>PowerPoint Presentation</dc:title>
</cp:coreProperties>
</file>