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62850" cy="106886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572D-6F85-4FE0-AAA7-C45A0E6B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CBEC-85C9-4462-B603-080149E9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0C56-5621-4801-903E-2E05669E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4F33-DB66-4A24-B06A-C2FB8CB2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C384-A206-4CD4-9E47-8B74F5AB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A50D-D687-4F8C-85EB-B28936A3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26AA-921D-4F57-8EC9-4BEB6211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145B-0D25-484C-B848-AAAB20E2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E118-E49D-4317-877F-CCA1D025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53E1-6310-4AA0-8FDE-B12C12FB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6E0C-B123-4E1E-B514-5BB8FB99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C85D-3B8A-4816-AC3A-000DB542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9905760"/>
            <a:ext cx="23940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94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D70A360C-5167-4F93-A2FA-DD05F905F8C8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900000" y="900000"/>
            <a:ext cx="5761080" cy="8888400"/>
          </a:xfrm>
          <a:prstGeom prst="rect">
            <a:avLst/>
          </a:prstGeom>
          <a:noFill/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no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pmo_poster_ppt_branding_color.png"/>
          <p:cNvPicPr/>
          <p:nvPr/>
        </p:nvPicPr>
        <p:blipFill>
          <a:blip r:embed="rId1"/>
          <a:stretch/>
        </p:blipFill>
        <p:spPr>
          <a:xfrm>
            <a:off x="900000" y="7907400"/>
            <a:ext cx="5759640" cy="1865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900000" y="1476360"/>
            <a:ext cx="58086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O.R. MORAVY, UH. OSTROH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Ř.KM 7,434 – 8,374, OPRAVA PB HRÁ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cs-CZ" sz="1400" spc="-1" strike="noStrike">
                <a:solidFill>
                  <a:srgbClr val="002243"/>
                </a:solidFill>
                <a:latin typeface="Arial"/>
                <a:ea typeface="Arial"/>
              </a:rPr>
              <a:t>k.ú. Uherský Ostro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900000" y="6248520"/>
            <a:ext cx="58086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Vypracoval: 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Ing.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Ondřej Pol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Datum: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3/2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4:50:46Z</dcterms:created>
  <dc:creator>J R</dc:creator>
  <dc:description/>
  <dc:language>en-US</dc:language>
  <cp:lastModifiedBy>Polách Ondřej</cp:lastModifiedBy>
  <cp:lastPrinted>2024-04-05T06:25:45Z</cp:lastPrinted>
  <dcterms:modified xsi:type="dcterms:W3CDTF">2024-04-05T06:31:15Z</dcterms:modified>
  <cp:revision>18</cp:revision>
  <dc:subject/>
  <dc:title>PowerPoint Presentation</dc:title>
</cp:coreProperties>
</file>