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7562850" cy="10688638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D8F8C-73B0-4D18-80E7-9AF091B32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6880" cy="1780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78000" y="2494080"/>
            <a:ext cx="6806880" cy="3364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78000" y="6179040"/>
            <a:ext cx="6806880" cy="3364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88D37-2805-4AB2-B09F-976D9D53A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6880" cy="1780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78000" y="2494080"/>
            <a:ext cx="3321720" cy="3364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6040" y="2494080"/>
            <a:ext cx="3321720" cy="3364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78000" y="6179040"/>
            <a:ext cx="3321720" cy="3364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866040" y="6179040"/>
            <a:ext cx="3321720" cy="3364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1CA09-D0FF-4FFA-A727-C0E4F45B5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6880" cy="1780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78000" y="2494080"/>
            <a:ext cx="2191680" cy="3364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79480" y="2494080"/>
            <a:ext cx="2191680" cy="3364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981320" y="2494080"/>
            <a:ext cx="2191680" cy="3364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78000" y="6179040"/>
            <a:ext cx="2191680" cy="3364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79480" y="6179040"/>
            <a:ext cx="2191680" cy="3364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981320" y="6179040"/>
            <a:ext cx="2191680" cy="3364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A8815-2890-43C7-A2EB-F4EB4F6FD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6880" cy="1780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78000" y="2494080"/>
            <a:ext cx="6806880" cy="70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8CF2E-B656-4732-BC18-3BC52244D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6880" cy="1780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78000" y="2494080"/>
            <a:ext cx="6806880" cy="7054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E8B5F-4653-450E-8F90-51F92999E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6880" cy="1780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78000" y="2494080"/>
            <a:ext cx="3321720" cy="7054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866040" y="2494080"/>
            <a:ext cx="3321720" cy="7054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1C225-EAF3-45D4-AC25-80402AC32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6880" cy="1780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BA527-60C0-4E5C-B896-C3C395932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78000" y="428400"/>
            <a:ext cx="6806880" cy="82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DC956-CF6C-4C91-8DF3-A91D0628E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6880" cy="1780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78000" y="2494080"/>
            <a:ext cx="3321720" cy="3364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866040" y="2494080"/>
            <a:ext cx="3321720" cy="7054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78000" y="6179040"/>
            <a:ext cx="3321720" cy="3364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63D11-BA83-4B38-8E24-FB39ED941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6880" cy="1780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78000" y="2494080"/>
            <a:ext cx="3321720" cy="7054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66040" y="2494080"/>
            <a:ext cx="3321720" cy="3364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66040" y="6179040"/>
            <a:ext cx="3321720" cy="3364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F56C8-B403-485A-AE8B-01C40E1F0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6880" cy="1780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78000" y="2494080"/>
            <a:ext cx="3321720" cy="3364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66040" y="2494080"/>
            <a:ext cx="3321720" cy="3364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78000" y="6179040"/>
            <a:ext cx="6806880" cy="3364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BCCB9-9D98-4D0D-8AD1-154223DB0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6880" cy="1780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78000" y="2494080"/>
            <a:ext cx="6806880" cy="7054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390600" indent="-39060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846000" indent="-3254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2" marL="1303200" indent="-2602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3" marL="1824120" indent="-26028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4" marL="2344680" indent="-26028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5" marL="2344680" indent="-26028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6" marL="2344680" indent="-26028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77640" y="9905760"/>
            <a:ext cx="1765080" cy="5698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lstStyle>
            <a:lvl1pPr indent="0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  <a:defRPr b="0" lang="en-US" sz="13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13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84440" y="9905760"/>
            <a:ext cx="2394000" cy="5698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419440" y="9905760"/>
            <a:ext cx="1765080" cy="5698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lstStyle>
            <a:lvl1pPr indent="0" algn="r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  <a:defRPr b="0" lang="en-US" sz="13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fld id="{34979C3C-DF80-447F-B3B0-233901402668}" type="slidenum">
              <a:rPr b="0" lang="en-US" sz="13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6"/>
          <p:cNvSpPr/>
          <p:nvPr/>
        </p:nvSpPr>
        <p:spPr>
          <a:xfrm>
            <a:off x="900000" y="900000"/>
            <a:ext cx="5761080" cy="8888400"/>
          </a:xfrm>
          <a:prstGeom prst="rect">
            <a:avLst/>
          </a:prstGeom>
          <a:noFill/>
          <a:ln w="64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22680" bIns="22680" anchor="ctr">
            <a:noAutofit/>
          </a:bodyPr>
          <a:p>
            <a:pPr algn="ctr"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7" descr="pmo_poster_ppt_branding_color.png"/>
          <p:cNvPicPr/>
          <p:nvPr/>
        </p:nvPicPr>
        <p:blipFill>
          <a:blip r:embed="rId1"/>
          <a:stretch/>
        </p:blipFill>
        <p:spPr>
          <a:xfrm>
            <a:off x="900000" y="7907400"/>
            <a:ext cx="5759640" cy="186516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10"/>
          <p:cNvSpPr/>
          <p:nvPr/>
        </p:nvSpPr>
        <p:spPr>
          <a:xfrm>
            <a:off x="900000" y="1476360"/>
            <a:ext cx="5808600" cy="24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1" lang="cs-CZ" sz="2200" spc="-1" strike="noStrike">
                <a:solidFill>
                  <a:srgbClr val="002243"/>
                </a:solidFill>
                <a:latin typeface="Arial"/>
                <a:ea typeface="Arial"/>
              </a:rPr>
              <a:t>O.R. MORAVY, UH. OSTROH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1" lang="cs-CZ" sz="2200" spc="-1" strike="noStrike">
                <a:solidFill>
                  <a:srgbClr val="002243"/>
                </a:solidFill>
                <a:latin typeface="Arial"/>
                <a:ea typeface="Arial"/>
              </a:rPr>
              <a:t>Ř.KM 7,434 – 8,374, OPRAVA PB HRÁZ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cs-CZ" sz="1400" spc="-1" strike="noStrike">
                <a:solidFill>
                  <a:srgbClr val="002243"/>
                </a:solidFill>
                <a:latin typeface="Arial"/>
                <a:ea typeface="Arial"/>
              </a:rPr>
              <a:t>k.ú. Uherský Ostro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19"/>
          <p:cNvSpPr/>
          <p:nvPr/>
        </p:nvSpPr>
        <p:spPr>
          <a:xfrm>
            <a:off x="900000" y="6248520"/>
            <a:ext cx="580860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1" lang="en-US" sz="1200" spc="-1" strike="noStrike">
                <a:solidFill>
                  <a:srgbClr val="002243"/>
                </a:solidFill>
                <a:latin typeface="Arial"/>
                <a:ea typeface="Arial"/>
              </a:rPr>
              <a:t>Vypracoval: </a:t>
            </a:r>
            <a:r>
              <a:rPr b="0" lang="en-US" sz="1200" spc="-1" strike="noStrike">
                <a:solidFill>
                  <a:srgbClr val="002243"/>
                </a:solidFill>
                <a:latin typeface="Arial"/>
                <a:ea typeface="Arial"/>
              </a:rPr>
              <a:t>Ing. </a:t>
            </a:r>
            <a:r>
              <a:rPr b="0" lang="cs-CZ" sz="1200" spc="-1" strike="noStrike">
                <a:solidFill>
                  <a:srgbClr val="002243"/>
                </a:solidFill>
                <a:latin typeface="Arial"/>
                <a:ea typeface="Arial"/>
              </a:rPr>
              <a:t>Ondřej Polá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1" lang="en-US" sz="1200" spc="-1" strike="noStrike">
                <a:solidFill>
                  <a:srgbClr val="002243"/>
                </a:solidFill>
                <a:latin typeface="Arial"/>
                <a:ea typeface="Arial"/>
              </a:rPr>
              <a:t>Datum:</a:t>
            </a:r>
            <a:r>
              <a:rPr b="0" lang="en-US" sz="1200" spc="-1" strike="noStrike">
                <a:solidFill>
                  <a:srgbClr val="002243"/>
                </a:solidFill>
                <a:latin typeface="Arial"/>
                <a:ea typeface="Arial"/>
              </a:rPr>
              <a:t> </a:t>
            </a:r>
            <a:r>
              <a:rPr b="0" lang="cs-CZ" sz="1200" spc="-1" strike="noStrike">
                <a:solidFill>
                  <a:srgbClr val="002243"/>
                </a:solidFill>
                <a:latin typeface="Arial"/>
                <a:ea typeface="Arial"/>
              </a:rPr>
              <a:t>3/202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14T14:50:46Z</dcterms:created>
  <dc:creator>J R</dc:creator>
  <dc:description/>
  <dc:language>en-US</dc:language>
  <cp:lastModifiedBy>Polách Ondřej</cp:lastModifiedBy>
  <cp:lastPrinted>2024-04-05T06:25:45Z</cp:lastPrinted>
  <dcterms:modified xsi:type="dcterms:W3CDTF">2024-04-05T06:31:15Z</dcterms:modified>
  <cp:revision>18</cp:revision>
  <dc:subject/>
  <dc:title>PowerPoint Presentation</dc:title>
</cp:coreProperties>
</file>