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62850" cy="106886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D889-8628-4D37-A8A0-DF91CCE5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BB5-D9FB-4369-8372-986EC524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2AC6-19E6-4D03-B59A-6F1D32C4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8706-2AE1-4AB2-B245-17164766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A152-5C49-4490-BE2B-56115FBD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8A1F-8237-45FC-B22F-61EE0D52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742E-AE05-4DE4-AB67-F2DFE9EC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45A2-17C3-4468-B66F-03963C01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2F5A-72C4-4AD5-9926-A52A2C67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1D87-DC93-4B46-A00B-0AD15E92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08F1-5F4E-4025-9678-9EA70727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B063-FDB9-4056-9B40-B85B9FA9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9905760"/>
            <a:ext cx="23940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94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6F1F411B-D091-4BCA-82F4-BD36F45E4321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900000" y="900000"/>
            <a:ext cx="5761080" cy="8888400"/>
          </a:xfrm>
          <a:prstGeom prst="rect">
            <a:avLst/>
          </a:prstGeom>
          <a:noFill/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pmo_poster_ppt_branding_color.png"/>
          <p:cNvPicPr/>
          <p:nvPr/>
        </p:nvPicPr>
        <p:blipFill>
          <a:blip r:embed="rId1"/>
          <a:stretch/>
        </p:blipFill>
        <p:spPr>
          <a:xfrm>
            <a:off x="900000" y="7907400"/>
            <a:ext cx="5759640" cy="1865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900000" y="1476360"/>
            <a:ext cx="58086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O.R. MORAVY, UH. OSTROH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Ř.KM 7,434 – 8,374, OPRAVA PB HRÁ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cs-CZ" sz="1400" spc="-1" strike="noStrike">
                <a:solidFill>
                  <a:srgbClr val="002243"/>
                </a:solidFill>
                <a:latin typeface="Arial"/>
                <a:ea typeface="Arial"/>
              </a:rPr>
              <a:t>k.ú. Uherský Ostro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900000" y="6248520"/>
            <a:ext cx="58086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Vypracoval: 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Ing.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Ondřej Pol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Datum: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3/2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4:50:46Z</dcterms:created>
  <dc:creator>J R</dc:creator>
  <dc:description/>
  <dc:language>en-US</dc:language>
  <cp:lastModifiedBy>Polách Ondřej</cp:lastModifiedBy>
  <cp:lastPrinted>2024-04-05T06:25:45Z</cp:lastPrinted>
  <dcterms:modified xsi:type="dcterms:W3CDTF">2024-04-05T06:31:15Z</dcterms:modified>
  <cp:revision>18</cp:revision>
  <dc:subject/>
  <dc:title>PowerPoint Presentation</dc:title>
</cp:coreProperties>
</file>