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282-9F5F-46F5-94C0-6D000E14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310E-1F6A-48C2-B288-747B4B19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5E21-E872-4C96-8FDD-DCAC9068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67A4-6281-4A9A-BF5C-BACAF32E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3D0-9669-406A-A343-19803074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8B5-B1AA-42F1-A933-D3B16EB6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493B-50CB-49DE-96EC-344546BE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634D-9312-49AB-AEA4-EF0C8FF9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FF7-8B66-418A-8B3B-15FDF7B7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40D0-0598-4E3B-8612-0AD08547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3F9A-CD86-435B-8DA9-CA0B6E9A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51E5-C3D7-45E1-890D-4DBAE6A5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905760"/>
            <a:ext cx="23940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5E66CF28-E199-4FB8-8317-CDFCAEA94C56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900000" y="900000"/>
            <a:ext cx="5761080" cy="888840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mo_poster_ppt_branding_color.png"/>
          <p:cNvPicPr/>
          <p:nvPr/>
        </p:nvPicPr>
        <p:blipFill>
          <a:blip r:embed="rId1"/>
          <a:stretch/>
        </p:blipFill>
        <p:spPr>
          <a:xfrm>
            <a:off x="900000" y="7907400"/>
            <a:ext cx="5759640" cy="186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900000" y="1476360"/>
            <a:ext cx="5808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O.R. MORAVY, UH. OSTROH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Ř.KM 7,434 – 8,374, OPRAVA PB HRÁ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cs-CZ" sz="1400" spc="-1" strike="noStrike">
                <a:solidFill>
                  <a:srgbClr val="002243"/>
                </a:solidFill>
                <a:latin typeface="Arial"/>
                <a:ea typeface="Arial"/>
              </a:rPr>
              <a:t>k.ú. Uherský Ostro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900000" y="6248520"/>
            <a:ext cx="58086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Vypracoval: 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Ing.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Ondřej Pol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Datum: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3/2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4:50:46Z</dcterms:created>
  <dc:creator>J R</dc:creator>
  <dc:description/>
  <dc:language>en-US</dc:language>
  <cp:lastModifiedBy>Polách Ondřej</cp:lastModifiedBy>
  <cp:lastPrinted>2024-04-05T06:25:45Z</cp:lastPrinted>
  <dcterms:modified xsi:type="dcterms:W3CDTF">2024-04-05T06:31:15Z</dcterms:modified>
  <cp:revision>18</cp:revision>
  <dc:subject/>
  <dc:title>PowerPoint Presentation</dc:title>
</cp:coreProperties>
</file>