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62850" cy="106886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9213-387A-4802-BB00-03283888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6C18-2281-406B-9081-494C7E72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0340-17B3-4FA5-89AA-A9F02042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92EA-46C8-4229-9540-77339B14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B29E-9A8C-4CEB-9675-FBDF3C36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46D9-23DB-436B-A457-68C1D1E2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C31C-88C1-4C39-9584-45A59003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CA69-D1D5-4014-A2FC-53BF154E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36E1-314A-4DBB-A84C-FA0A67DE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6090-0C61-4772-890E-FCE3DA9D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5539-744A-4FBD-BC32-AC1E652B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A6F8-3251-4F33-A299-05490868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9905760"/>
            <a:ext cx="23940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94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0D9723A0-A978-4F21-9421-8AB42B80A9ED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900000" y="900000"/>
            <a:ext cx="5761080" cy="8888400"/>
          </a:xfrm>
          <a:prstGeom prst="rect">
            <a:avLst/>
          </a:prstGeom>
          <a:noFill/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no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pmo_poster_ppt_branding_color.png"/>
          <p:cNvPicPr/>
          <p:nvPr/>
        </p:nvPicPr>
        <p:blipFill>
          <a:blip r:embed="rId1"/>
          <a:stretch/>
        </p:blipFill>
        <p:spPr>
          <a:xfrm>
            <a:off x="900000" y="7907400"/>
            <a:ext cx="5759640" cy="1865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900000" y="1476360"/>
            <a:ext cx="58086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O.R. MORAVY, UH. OSTROH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Ř.KM 7,434 – 8,374, OPRAVA PB HRÁ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cs-CZ" sz="1400" spc="-1" strike="noStrike">
                <a:solidFill>
                  <a:srgbClr val="002243"/>
                </a:solidFill>
                <a:latin typeface="Arial"/>
                <a:ea typeface="Arial"/>
              </a:rPr>
              <a:t>k.ú. Uherský Ostro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900000" y="6248520"/>
            <a:ext cx="58086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Vypracoval: 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Ing.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Ondřej Pol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Datum: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3/2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4:50:46Z</dcterms:created>
  <dc:creator>J R</dc:creator>
  <dc:description/>
  <dc:language>en-US</dc:language>
  <cp:lastModifiedBy>Polách Ondřej</cp:lastModifiedBy>
  <cp:lastPrinted>2024-04-05T06:25:45Z</cp:lastPrinted>
  <dcterms:modified xsi:type="dcterms:W3CDTF">2024-04-05T06:31:15Z</dcterms:modified>
  <cp:revision>18</cp:revision>
  <dc:subject/>
  <dc:title>PowerPoint Presentation</dc:title>
</cp:coreProperties>
</file>