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62850" cy="1068863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1D2-67BD-4FCE-9D8E-F666F062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C3C-24B1-4386-AFE9-A4632CC5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B7C-2A61-44A4-BDFC-3E1F084C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948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81320" y="249408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948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81320" y="6179040"/>
            <a:ext cx="21916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B2B-8B91-4135-877D-40C651FD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F17-BFAE-4F8E-9225-E593BAB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EFC-7E68-49CE-91F5-5917FE4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E3D-5E2F-4A4B-AEA0-9E29EBB3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88F-F98A-45DC-8D0D-8EE3C0B7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8400"/>
            <a:ext cx="680688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9FF1-26E9-4BD2-BD05-7763597C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1CB1-6622-4F58-89A8-4BCA83BE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6040" y="617904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17E-388B-42A2-A27A-93904352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6040" y="2494080"/>
            <a:ext cx="332172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79040"/>
            <a:ext cx="6806880" cy="3364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531-C31C-4CCE-9264-BAC9CBD2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8400"/>
            <a:ext cx="6806880" cy="1780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94080"/>
            <a:ext cx="6806880" cy="705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44680" indent="-26028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9905760"/>
            <a:ext cx="23940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9440" y="9905760"/>
            <a:ext cx="176508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  <a:defRPr b="0" lang="en-US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fld id="{05313103-5FE1-480A-A555-2A426DA310C2}" type="slidenum">
              <a:rPr b="0" lang="en-US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6"/>
          <p:cNvSpPr/>
          <p:nvPr/>
        </p:nvSpPr>
        <p:spPr>
          <a:xfrm>
            <a:off x="900000" y="900000"/>
            <a:ext cx="5761080" cy="8888400"/>
          </a:xfrm>
          <a:prstGeom prst="rect">
            <a:avLst/>
          </a:prstGeom>
          <a:noFill/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2680" bIns="22680" anchor="ctr">
            <a:noAutofit/>
          </a:bodyPr>
          <a:p>
            <a:pPr algn="ctr"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pmo_poster_ppt_branding_color.png"/>
          <p:cNvPicPr/>
          <p:nvPr/>
        </p:nvPicPr>
        <p:blipFill>
          <a:blip r:embed="rId1"/>
          <a:stretch/>
        </p:blipFill>
        <p:spPr>
          <a:xfrm>
            <a:off x="900000" y="7907400"/>
            <a:ext cx="5759640" cy="1865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900000" y="1476360"/>
            <a:ext cx="5808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O.R. MORAVY, UH. OSTROH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cs-CZ" sz="2200" spc="-1" strike="noStrike">
                <a:solidFill>
                  <a:srgbClr val="002243"/>
                </a:solidFill>
                <a:latin typeface="Arial"/>
                <a:ea typeface="Arial"/>
              </a:rPr>
              <a:t>Ř.KM 7,434 – 8,374, OPRAVA PB HRÁ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cs-CZ" sz="1400" spc="-1" strike="noStrike">
                <a:solidFill>
                  <a:srgbClr val="002243"/>
                </a:solidFill>
                <a:latin typeface="Arial"/>
                <a:ea typeface="Arial"/>
              </a:rPr>
              <a:t>k.ú. Uherský Ostro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9"/>
          <p:cNvSpPr/>
          <p:nvPr/>
        </p:nvSpPr>
        <p:spPr>
          <a:xfrm>
            <a:off x="900000" y="6248520"/>
            <a:ext cx="58086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Vypracoval: 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Ing.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Ondřej Pol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Datum:</a:t>
            </a:r>
            <a:r>
              <a:rPr b="0" lang="en-US" sz="1200" spc="-1" strike="noStrike">
                <a:solidFill>
                  <a:srgbClr val="002243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2243"/>
                </a:solidFill>
                <a:latin typeface="Arial"/>
                <a:ea typeface="Arial"/>
              </a:rPr>
              <a:t>3/20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4:50:46Z</dcterms:created>
  <dc:creator>J R</dc:creator>
  <dc:description/>
  <dc:language>en-US</dc:language>
  <cp:lastModifiedBy>Polách Ondřej</cp:lastModifiedBy>
  <cp:lastPrinted>2024-04-05T06:25:45Z</cp:lastPrinted>
  <dcterms:modified xsi:type="dcterms:W3CDTF">2024-04-05T06:31:15Z</dcterms:modified>
  <cp:revision>18</cp:revision>
  <dc:subject/>
  <dc:title>PowerPoint Presentation</dc:title>
</cp:coreProperties>
</file>