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62850" cy="106886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CAC9-2EC2-442B-BA38-9177BE92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3AE3-430C-4F78-9CA1-D17D8168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5645-9FD5-4F5D-A045-D881C37E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F0BC-E73F-4F5F-BD97-7851F2A3F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6D11-CD09-4956-A93D-0438B129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1782-D75C-4161-A85C-CF448846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DAF8-5D54-49CD-A71B-3F1AB588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46C7-2F8B-4357-8E75-23A60505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92AB-AFC0-4169-9349-A015E40D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BCBB-C1F6-4AA8-A813-1E3C3F97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5025-442F-4995-9598-E0D31497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F65E-62D6-4B5B-8739-93119BB2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9905760"/>
            <a:ext cx="23940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94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558E6356-C8EA-4620-B6EE-A1E990F874E3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900000" y="900000"/>
            <a:ext cx="5761080" cy="8888400"/>
          </a:xfrm>
          <a:prstGeom prst="rect">
            <a:avLst/>
          </a:prstGeom>
          <a:noFill/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no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pmo_poster_ppt_branding_color.png"/>
          <p:cNvPicPr/>
          <p:nvPr/>
        </p:nvPicPr>
        <p:blipFill>
          <a:blip r:embed="rId1"/>
          <a:stretch/>
        </p:blipFill>
        <p:spPr>
          <a:xfrm>
            <a:off x="900000" y="7907400"/>
            <a:ext cx="5759640" cy="1865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900000" y="1476360"/>
            <a:ext cx="58086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O.R. MORAVY, UH. OSTROH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Ř.KM 7,434 – 8,374, OPRAVA PB HRÁ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cs-CZ" sz="1400" spc="-1" strike="noStrike">
                <a:solidFill>
                  <a:srgbClr val="002243"/>
                </a:solidFill>
                <a:latin typeface="Arial"/>
                <a:ea typeface="Arial"/>
              </a:rPr>
              <a:t>k.ú. Uherský Ostro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900000" y="6248520"/>
            <a:ext cx="58086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Vypracoval: 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Ing.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Ondřej Polá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Datum: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3/2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4:50:46Z</dcterms:created>
  <dc:creator>J R</dc:creator>
  <dc:description/>
  <dc:language>en-US</dc:language>
  <cp:lastModifiedBy>Polách Ondřej</cp:lastModifiedBy>
  <cp:lastPrinted>2024-04-05T06:25:45Z</cp:lastPrinted>
  <dcterms:modified xsi:type="dcterms:W3CDTF">2024-04-05T06:31:15Z</dcterms:modified>
  <cp:revision>18</cp:revision>
  <dc:subject/>
  <dc:title>PowerPoint Presentation</dc:title>
</cp:coreProperties>
</file>