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62850" cy="1068863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6D29-CC68-4E2B-8CFB-0198DA377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D028-C753-48F5-B184-FDA54A2D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BF16-FC5A-4717-B5CC-926DC87C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948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8132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948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8132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6BF0-9F55-48FA-954C-F02B80B7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0EBA-558B-47A8-B994-D94EB878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ED0D-D7C5-47E1-8575-6614D922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D4AB-D0DD-4ACE-8E2E-94FBE9DB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C7BF-0DFE-4BE8-971E-BB931BA4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688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8606-EC47-4F2C-99C0-3EC164AA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C144-260A-4963-A842-C98CE260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A111-4A74-4C74-92BA-EDE31EB5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2EBB-FB17-47C6-BC9C-36418015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4440" y="9905760"/>
            <a:ext cx="23940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94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fld id="{9AC99849-5369-4B49-9ED7-A8D66DDE824E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900000" y="900000"/>
            <a:ext cx="5761080" cy="8888400"/>
          </a:xfrm>
          <a:prstGeom prst="rect">
            <a:avLst/>
          </a:prstGeom>
          <a:noFill/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no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pmo_poster_ppt_branding_color.png"/>
          <p:cNvPicPr/>
          <p:nvPr/>
        </p:nvPicPr>
        <p:blipFill>
          <a:blip r:embed="rId1"/>
          <a:stretch/>
        </p:blipFill>
        <p:spPr>
          <a:xfrm>
            <a:off x="900000" y="7907400"/>
            <a:ext cx="5759640" cy="1865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900000" y="1476360"/>
            <a:ext cx="580860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O.R. MORAVY, UH. OSTROH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Ř.KM 7,434 – 8,374, OPRAVA PB HRÁ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cs-CZ" sz="1400" spc="-1" strike="noStrike">
                <a:solidFill>
                  <a:srgbClr val="002243"/>
                </a:solidFill>
                <a:latin typeface="Arial"/>
                <a:ea typeface="Arial"/>
              </a:rPr>
              <a:t>k.ú. Uherský Ostro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900000" y="6248520"/>
            <a:ext cx="58086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Vypracoval: 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Ing.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Ondřej Polá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Datum: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3/20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4:50:46Z</dcterms:created>
  <dc:creator>J R</dc:creator>
  <dc:description/>
  <dc:language>en-US</dc:language>
  <cp:lastModifiedBy>Polách Ondřej</cp:lastModifiedBy>
  <cp:lastPrinted>2024-04-05T06:25:45Z</cp:lastPrinted>
  <dcterms:modified xsi:type="dcterms:W3CDTF">2024-04-05T06:31:15Z</dcterms:modified>
  <cp:revision>18</cp:revision>
  <dc:subject/>
  <dc:title>PowerPoint Presentation</dc:title>
</cp:coreProperties>
</file>